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B520-3F16-4FBD-9701-47DB86E4A7F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4E32-FF69-42A4-986A-D528989F9A3A}" type="slidenum">
              <a:rPr b="0" lang="it-IT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590-7B26-4AEA-B5E5-7D47D712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E1F-B7C2-4AF8-85D0-515D1E7D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5BE-4951-4B40-8644-1A01CC13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A74-303F-4ACD-B013-A48A4185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99D-58D9-4937-A5A9-4953DE48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753A-EEB1-446A-BBBD-7A7A4A5C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0398-7571-4973-BB11-51433204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AB2E-765E-4B20-9298-A438A9E4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EDF7-1658-40DE-90CA-6D2E257A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E9EB-03A2-431D-B2DA-ECDA7780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DA05-5099-4960-8A5A-757FDF6F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986-9559-4D89-967B-A8B3D52D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3120-0F4D-4852-939B-29C6D1F6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17E1-390F-49C3-948F-55C82D1F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5243-7603-4884-968B-2A5E4B63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DDBC-3EFD-4847-AC3B-3C0EFC86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2564-04B6-405C-AF1F-3522DFD9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210-4B92-4AC5-93EB-D9E9050B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896-6598-4536-8DD6-246AB11F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216-8738-4C28-A5F5-88F3E40F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D1F-C137-4D2A-A4BD-60456959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601-BFB5-4C65-8D00-6D20EEC5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CE2-03FC-4BAA-8AF8-45F20110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879-2319-4F97-8304-E7E77CFD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DBB4-99C3-4410-9C01-CAE23350A9C7}" type="slidenum">
              <a:rPr b="0" lang="it-IT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5346-474A-4B34-AF9E-23D0E464C515}" type="slidenum">
              <a:rPr b="0" lang="de-DE" sz="1400" spc="-1" strike="noStrike">
                <a:solidFill>
                  <a:srgbClr val="ffff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data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Segnaposto piè di pagina 2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Picture 2" descr="EUROPEAN UNION LOGO"/>
          <p:cNvPicPr/>
          <p:nvPr/>
        </p:nvPicPr>
        <p:blipFill>
          <a:blip r:embed="rId1"/>
          <a:stretch/>
        </p:blipFill>
        <p:spPr>
          <a:xfrm>
            <a:off x="0" y="5459400"/>
            <a:ext cx="1981080" cy="136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LET'S DO IT BETTER LOGO"/>
          <p:cNvPicPr/>
          <p:nvPr/>
        </p:nvPicPr>
        <p:blipFill>
          <a:blip r:embed="rId2"/>
          <a:stretch/>
        </p:blipFill>
        <p:spPr>
          <a:xfrm>
            <a:off x="4876920" y="4191120"/>
            <a:ext cx="426708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LA COMUNITÀ"/>
          <p:cNvPicPr/>
          <p:nvPr/>
        </p:nvPicPr>
        <p:blipFill>
          <a:blip r:embed="rId3"/>
          <a:stretch/>
        </p:blipFill>
        <p:spPr>
          <a:xfrm>
            <a:off x="2743200" y="374760"/>
            <a:ext cx="6172200" cy="473076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0" y="2514600"/>
            <a:ext cx="4460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Impact"/>
              </a:rPr>
              <a:t>Let's Do It Bet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9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4" descr="536875_10200093340969082_842627564_n"/>
          <p:cNvPicPr/>
          <p:nvPr/>
        </p:nvPicPr>
        <p:blipFill>
          <a:blip r:embed="rId1"/>
          <a:stretch/>
        </p:blipFill>
        <p:spPr>
          <a:xfrm>
            <a:off x="2209680" y="1066680"/>
            <a:ext cx="5535720" cy="5042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" name="Picture 4" descr="601117_10200093348369267_1764865600_n"/>
          <p:cNvPicPr/>
          <p:nvPr/>
        </p:nvPicPr>
        <p:blipFill>
          <a:blip r:embed="rId1"/>
          <a:stretch/>
        </p:blipFill>
        <p:spPr>
          <a:xfrm>
            <a:off x="1905120" y="380880"/>
            <a:ext cx="5099040" cy="6096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4" descr="734440_10200093320368567_1653039066_n"/>
          <p:cNvPicPr/>
          <p:nvPr/>
        </p:nvPicPr>
        <p:blipFill>
          <a:blip r:embed="rId1"/>
          <a:stretch/>
        </p:blipFill>
        <p:spPr>
          <a:xfrm>
            <a:off x="1981080" y="846000"/>
            <a:ext cx="5764320" cy="5249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4" descr="734494_10200093336888980_1219388846_n"/>
          <p:cNvPicPr/>
          <p:nvPr/>
        </p:nvPicPr>
        <p:blipFill>
          <a:blip r:embed="rId1"/>
          <a:stretch/>
        </p:blipFill>
        <p:spPr>
          <a:xfrm>
            <a:off x="2133720" y="984240"/>
            <a:ext cx="5611680" cy="51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to find jo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4" descr="23434_1325971522148_6637753_n"/>
          <p:cNvPicPr/>
          <p:nvPr/>
        </p:nvPicPr>
        <p:blipFill>
          <a:blip r:embed="rId1"/>
          <a:stretch/>
        </p:blipFill>
        <p:spPr>
          <a:xfrm>
            <a:off x="838080" y="685800"/>
            <a:ext cx="500868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ACTIVITIES WITH YOUNG and IMMIGRA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5" descr="23434_1325971522148_6637753_n"/>
          <p:cNvPicPr/>
          <p:nvPr/>
        </p:nvPicPr>
        <p:blipFill>
          <a:blip r:embed="rId1"/>
          <a:stretch/>
        </p:blipFill>
        <p:spPr>
          <a:xfrm>
            <a:off x="3608280" y="1981080"/>
            <a:ext cx="375624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86400" y="1599840"/>
            <a:ext cx="3200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presence of many volunteers facilitates the dialogue and help to animate the 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4" descr="226105_10200093223686150_1012808522_n"/>
          <p:cNvPicPr/>
          <p:nvPr/>
        </p:nvPicPr>
        <p:blipFill>
          <a:blip r:embed="rId1"/>
          <a:stretch/>
        </p:blipFill>
        <p:spPr>
          <a:xfrm>
            <a:off x="304920" y="2416320"/>
            <a:ext cx="4876560" cy="444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mutual knowledge and intercultural dialogue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Picture 4" descr="269322_10200093324568672_1979449714_n"/>
          <p:cNvPicPr/>
          <p:nvPr/>
        </p:nvPicPr>
        <p:blipFill>
          <a:blip r:embed="rId1"/>
          <a:stretch/>
        </p:blipFill>
        <p:spPr>
          <a:xfrm>
            <a:off x="1905120" y="1523880"/>
            <a:ext cx="5459400" cy="497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CITIZENSHI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4" descr="300791_2195343415902_1740919_n"/>
          <p:cNvPicPr/>
          <p:nvPr/>
        </p:nvPicPr>
        <p:blipFill>
          <a:blip r:embed="rId1"/>
          <a:stretch/>
        </p:blipFill>
        <p:spPr>
          <a:xfrm>
            <a:off x="1143000" y="1676520"/>
            <a:ext cx="682164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Play toghe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Picture 4" descr="303576_2195337855763_2338871_n"/>
          <p:cNvPicPr/>
          <p:nvPr/>
        </p:nvPicPr>
        <p:blipFill>
          <a:blip r:embed="rId1"/>
          <a:stretch/>
        </p:blipFill>
        <p:spPr>
          <a:xfrm>
            <a:off x="2473200" y="1981080"/>
            <a:ext cx="602460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Arial"/>
              </a:rPr>
              <a:t>build intercultural dialog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8" name="Picture 4" descr="316594_2196115675208_5751798_n"/>
          <p:cNvPicPr/>
          <p:nvPr/>
        </p:nvPicPr>
        <p:blipFill>
          <a:blip r:embed="rId1"/>
          <a:stretch/>
        </p:blipFill>
        <p:spPr>
          <a:xfrm>
            <a:off x="2514600" y="1981080"/>
            <a:ext cx="523080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Picture 4" descr="379324_10200093345449194_228595049_n"/>
          <p:cNvPicPr/>
          <p:nvPr/>
        </p:nvPicPr>
        <p:blipFill>
          <a:blip r:embed="rId1"/>
          <a:stretch/>
        </p:blipFill>
        <p:spPr>
          <a:xfrm>
            <a:off x="1295280" y="1165320"/>
            <a:ext cx="6450120" cy="4930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Segnaposto piè di pagina 4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" name="Picture 4" descr="428283_10200093333288890_500160707_n"/>
          <p:cNvPicPr/>
          <p:nvPr/>
        </p:nvPicPr>
        <p:blipFill>
          <a:blip r:embed="rId1"/>
          <a:stretch/>
        </p:blipFill>
        <p:spPr>
          <a:xfrm>
            <a:off x="1371600" y="1143000"/>
            <a:ext cx="6145200" cy="483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20:32:09Z</dcterms:created>
  <dc:creator>' '</dc:creator>
  <dc:description/>
  <dc:language>en-US</dc:language>
  <cp:lastModifiedBy>federica</cp:lastModifiedBy>
  <dcterms:modified xsi:type="dcterms:W3CDTF">2013-03-03T12:20:44Z</dcterms:modified>
  <cp:revision>2</cp:revision>
  <dc:subject/>
  <dc:title>Presentazione di PowerPoint</dc:title>
</cp:coreProperties>
</file>